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A247B-10F1-447D-BA58-BF18B4FC5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E29A-2882-4744-9A4D-A0B6DE3C26D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8A96-C1A0-4ED5-A0AE-A802A4F063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ACF7C-AF8C-45A5-9557-711FF90BBB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677E-8654-4FEC-B938-D52CEE8F0D4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39B9-9832-4870-9600-6B43B6C4DB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BDFE-A4E0-4A9D-9C6B-A66EFE0FA3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5DB3-CB33-4363-BD32-804390F4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9BA0-60BE-47E4-8D2B-E912C824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15F-C45B-4372-8FC2-0CF85214E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C57A-B851-4126-8EA0-AA890916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1C2E1-A7B2-4975-AA66-686757858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4A0B-E691-49A3-A46F-4B3E15B7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D848-28FA-4593-9B59-7FABF8AC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C5EB0-5F8A-423D-840D-D3005672F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0AC4-070B-408A-859B-685847A1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5C06-48FA-485E-9063-53C0D83D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EDA2-278F-4C2C-BF38-599ED830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0746-F534-4B02-8A10-A1B98FEC4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5FBF-BF76-40EB-8730-CF1DB983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0312-80CE-4EEF-A324-2C5694CF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40950-D55F-42A9-A1C7-3157A616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0468-B3EB-4190-B7B7-0EE2E383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205080"/>
            <a:ext cx="264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9FAB9-5A2B-49F8-A6D1-CD2DD2C7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9026-9BD9-4D9C-A03B-3F28420C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FC22-7075-4808-A22C-3E621FB2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519-622B-4944-BA41-BB57C8C7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81C2-44A9-4701-967E-722BF9D2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6C0-568A-4FEB-AF33-7A0933D4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2050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53B-6356-4FB1-943C-2635D456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205080"/>
            <a:ext cx="8229600" cy="174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06D-AD02-470B-82CF-D986F2C8E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9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8571-9BF2-497B-82D8-0AA28954BF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9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SWFoxBanner2011_Wide_NO_DiscountBlurb_Animated"/>
          <p:cNvPicPr/>
          <p:nvPr/>
        </p:nvPicPr>
        <p:blipFill>
          <a:blip r:embed="rId2"/>
          <a:stretch/>
        </p:blipFill>
        <p:spPr>
          <a:xfrm>
            <a:off x="6172200" y="5791320"/>
            <a:ext cx="2571840" cy="457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653760" indent="-2512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2" marL="1005840" indent="-200880">
              <a:spcBef>
                <a:spcPts val="799"/>
              </a:spcBef>
              <a:buClr>
                <a:srgbClr val="6600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3" marL="1407960" indent="-2008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4" marL="1810440" indent="-200880">
              <a:spcBef>
                <a:spcPts val="799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5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6" marL="1810440" indent="-2008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BE52-BC6C-4E53-A487-F158D3D309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Easy Multi-threading With Visual FoxPr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Kevin Ragsda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VFP and multi-threading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o execute VFP code in another thread, you must build a MTDL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e can create multi-threaded DLLs in VFP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BUT, VFP loads the DLL in the same thread as the main applica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 multi-threaded DLL in a single thread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Three utilities for MT in VFP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mus Rusanu (helper DLL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alvin Hsia (assembler code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hristof Wollenhaupt (helper DLL)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same DLL as the earlier demo, this time using Christof’s DMULT.DL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Introducing DMULT.DLL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++ DLL written by Christof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an accept a COM object or string referenc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reates a new thread, initializes the apartment, and loads the COM server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e’re going to be using COM objects in this sess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Using DMULT.DLL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eclare the func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ree parameters: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COM server to load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Method to run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Callback object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Parameter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rver name and method must be sent in Unicod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STRCONV(“MyServer.MyClass”+CHR(0),5)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STRCONV(“MyMethod”+CHR(0),5)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onvert callback from a VFP reference to COM referenc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loCOMRef = _VFP.Eval(“loVFPRef”)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hat else can I do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llocate memory, pass the address to both threads, and use SYS(2600) to exchange data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Inter-thread communica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vents, critical sections, etc.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Visual Foxy FeedReader Pro Application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Creating event handler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vent handlers can be any VFP objec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dding properties/methods to the event handler objects extends their functionality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rror-checking/handling is very importan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About this session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93640" y="1098720"/>
            <a:ext cx="8093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s session provides an introduction to creating multi-threaded applications using Christof’s DMULT.D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is is an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intermediate-level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sess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Pre-requisites: Knowledge of creating, debugging, and deploying MTDLL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100+ simultaneous web requests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Every thread is a new instance of the VFP runtim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Global objects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d1cc"/>
                </a:solidFill>
                <a:latin typeface="Tahoma"/>
              </a:rPr>
              <a:t>Work areas</a:t>
            </a:r>
            <a:endParaRPr b="0" lang="en-US" sz="28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You can use CURSORTOXML() to pass data back and forth, though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ifferent projec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Harder to debug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ore planning involved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ifferent runtim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Demo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Unzipping large zip files, with notification via a Desktop Aler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ulti-threaded VFP apps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are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possib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Using Christof’s DLL makes it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easy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762120" y="3151800"/>
            <a:ext cx="7635600" cy="16578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member to fill out your evalua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ssion slides, white paper, and code samples </a:t>
            </a: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will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 be upda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About me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Been using FoxPro since 1993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Occasionally blog at kevinragsdale.net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requently tweet @KevinRagsdal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orld-champion Mario Kart Wii racer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Books, Articles, Awards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What is multi-threading?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dvantages of multi-threading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n introduction to Christof’s DMULT.DLL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Creating event handler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al-world (not “Hello World”) examples!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Disadvantages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What is multi-threading?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 ability for your app to do many things at the same tim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Frees up your user interface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llows the user to follow her workflow, instead of your apps’ workflow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Advantages of multi-threading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sponsiveness of your UI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sponsiveness of your UI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3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Responsiveness of your UI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800440" y="3124080"/>
            <a:ext cx="348444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Question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Many things would be easier to do if I could run them in a background thread. Is there a way to create multi-threaded applications in VFP?”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Advisor Guide to Microsoft Visual FoxPro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September 2006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9d1cc"/>
                </a:solidFill>
                <a:latin typeface="Tahoma"/>
              </a:rPr>
              <a:t>Answer from Christof</a:t>
            </a:r>
            <a:endParaRPr b="0" lang="en-US" sz="4400" spc="-1" strike="noStrike">
              <a:solidFill>
                <a:srgbClr val="e9d1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36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There’s a clear answer to that: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d1cc"/>
                </a:solidFill>
                <a:latin typeface="Tahoma"/>
              </a:rPr>
              <a:t>It depends</a:t>
            </a:r>
            <a:r>
              <a:rPr b="0" lang="en-US" sz="3200" spc="-1" strike="noStrike">
                <a:solidFill>
                  <a:srgbClr val="e9d1cc"/>
                </a:solidFill>
                <a:latin typeface="Tahoma"/>
              </a:rPr>
              <a:t>.”</a:t>
            </a: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9d1cc"/>
              </a:solidFill>
              <a:latin typeface="Tahoma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20:40Z</dcterms:created>
  <dc:creator>Kevin Ragsdale</dc:creator>
  <dc:description/>
  <dc:language>en-US</dc:language>
  <cp:lastModifiedBy>Demos</cp:lastModifiedBy>
  <dcterms:modified xsi:type="dcterms:W3CDTF">2011-10-28T07:17:07Z</dcterms:modified>
  <cp:revision>29</cp:revision>
  <dc:subject/>
  <dc:title>Easy Multi-threading With Visual FoxPr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1681033</vt:lpwstr>
  </property>
</Properties>
</file>